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00F4-8BB7-47C0-BCD8-6BB24C11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CE8-582E-47E6-A25C-FED2918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B8998-47CD-4753-ACD1-D46046C3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5F99-8BBD-41DF-A274-6343F9F7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66EAA-D274-464E-9AA5-0CBB0C76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1C15-3747-4610-9B29-DE631027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288FF-004B-46F2-A07C-647E479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7337B-7CDF-4DBC-A848-7841FC67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D7120-6132-4377-B96D-29A519C9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11F99-8697-4663-87A9-5ACEC87C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5FD7F-EA32-4AE0-8418-1249AD94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4BC5-515A-40CB-9DD7-2BD9286E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7357-C968-4C74-AFB0-63020579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01D9-23D8-4CDD-805C-60A6A6AA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353E-3B02-4946-918C-004CA3B6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2267-A7D0-476C-ACF1-7728379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22C-9EAF-4497-A6BD-BC1F121E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238C-3B84-4C11-87D6-EA680F8C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BF4A-832D-41F1-BAFB-CE16470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0531-B8FA-450D-A5F9-D1197876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671-0E23-4672-B107-EC644F4B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042-7C86-4AED-A69F-1D9A28A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16E-9EB7-42F8-A564-5A52C77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78C7-CB2D-4D70-B87E-1062BD34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8365-B4E6-4015-A73A-5998B4C1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FAB-2300-4D1A-BDA3-C71A571D8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CD09-2188-4BC8-A6BC-DB28E598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B312-97FA-4BD2-8311-D639981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3DA4-D7DB-485A-A163-6D8F729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5EDA2-745B-49C8-A95E-99A6991C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2642-2983-453E-8343-0E4EF5E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63E-5B53-46A1-966D-B12ECF32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A7A1-6AF8-42AE-9564-550C9BC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3BFFB-802E-4B07-8425-E2DA8083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6D6EC-01A1-4F64-9FAA-A6ED006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6A70-0179-4712-B0BD-F50E94B1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C8BF-3769-43FB-989E-C4F79072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5E5B-75CD-4712-B81F-4E64FE7E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82FF-65FA-4504-9317-865F4F07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0D365-E721-430E-9213-36746AB3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B5D7-35D4-43E6-A692-F35ABAC1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63C8A-510C-4467-BBAA-531FC05C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56F-2602-4444-8222-77FA5D6D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83880-7D80-476E-A611-85CF2DFD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3CF8-C8C6-44FE-85D7-70259F9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AA06F-92B3-4BED-A6C2-F0C031A2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AC888-0BE5-4849-9D99-AB4AD69D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EAF3-DACE-44D2-9800-A713DF21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AB35-80E4-40B1-B88B-F344525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89B2-7D56-4716-B9D8-0B1693A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FDF8-DD9B-42CB-9175-EBB84DBD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056C-48C7-4D47-AC4F-9F6289BA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4FA6-D1DD-4AA1-90F4-4A62678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013-6458-46C0-BC91-A984CD65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11946-EB29-4E06-8F2E-D08A5849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66C4E-E3A0-4DAE-B43B-5BE71E54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9623D-712F-4C9E-94DE-EEA3E75E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93A7F-1F1D-4A6D-A0B4-5D5222F8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D49C-C6BF-432B-817E-ABEBFA7B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E8737-BF2D-4243-8E33-D1A4136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6DAC3-89B8-499A-BCB0-F8CE766D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D31E-7F5C-4F03-A633-092505B2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BD3F2-F63B-4FDA-8563-1D471E9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DF32A-7387-4D3B-9CA9-12F3443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534-6BFC-4C6A-BCFE-CA4D7F5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C1E7-F59D-4F1F-BAC3-0CF1D51F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39612-8D26-4267-8BD1-E87D6F16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647A0-BE4D-4AFF-BD48-63BAAA15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7C970-FA21-45B5-B2AA-22442E4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25FCF-96F1-4172-BCBE-83F5A03A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B1723-FB1E-4078-B8C3-FD21E54C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07F97-E0B2-481F-88EA-774BAD34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4B0E-C9AF-471A-BDE5-BC0E41D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0813-03EF-4EC1-833F-B8AB96E0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628AB-A37C-4819-9B3E-DF1103F9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F52D-85ED-45E3-A7C3-47D69C27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07553-D71A-426C-8FC1-B03D24E2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09F3-434D-479D-AB82-38C36B66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D0096-E502-4DA8-B0E0-9A32BB78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9C089-10DB-45CF-948F-0DC94F66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E28B3-E874-4215-B4F1-52C86E2F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115A9-DF65-4237-B376-5438F2F1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33B5-AAD1-489F-B6C9-B0089666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8FAE-CB3D-4F2A-996F-E06755C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B44D-3ACA-40AF-B4CE-9D4C8A0F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E25F7-726E-43F8-8C04-8D232BF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A65-7A25-4EF9-BEF7-46132D6A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2515-0DEA-4ACC-8EA3-40706FE1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5F079-0C8F-4986-AEC4-770324A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C76C-119B-495B-8AE0-7F5BD03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269E6-FA70-4030-990D-86093C88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86647-2993-40DA-A894-82748548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70C6-D70F-4DDC-9B6B-F5004732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5C4E0-BD21-4C20-83EE-1AF0457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A6964-07F4-4EF6-8641-F6E34A1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3587-3FB1-4843-A195-1BEAA5E9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5914-EE58-4FCE-8DB0-EC620867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E0C-264D-4B30-8FD6-A0E40494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486DA-D192-4DA6-896E-9993D11A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6D66-4F6B-4B1D-AB20-B85665B0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EF9F7-763F-4FEC-B86C-A72B670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557B9-724C-4764-A60C-51C284C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A571-AF8E-4D71-9588-D9950454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ADABC-E497-47B1-AD3C-72E06FBE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96234-655E-45B9-94CD-ECB84974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20BE0-DECD-4DE4-81BC-1BBB627A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B877B-F8E4-4AD8-BD37-60B969F2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FDDA9-62FE-44C9-A611-BF857462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E101-7568-46C4-B38F-3274FFBD5C2D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cteur droit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E2E0-FA10-4D8E-87EC-E46327267B43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cteur droit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cteur droit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cteur droit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cteur droit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cteur droit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cteur droit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38D-B13B-4331-90B1-DE547A8766C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cteur droit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E737-9DDB-4583-8974-2AFFC0DCD564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cteur droit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AD7C-E4EB-44CE-AE27-C6EE68EDFABB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E5C1-8355-4E52-8E55-A6B79170F6E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cteur droit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cteur droit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7E3-70A5-4CA6-8809-BBD809154DC2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D74F-FBFF-4AB3-AAD2-87A913E38CCD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3BEB-A456-4549-897D-F77AAB5C6001}" type="slidenum">
              <a:rPr b="0" lang="fr-F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re 3" descr=""/>
          <p:cNvPicPr/>
          <p:nvPr/>
        </p:nvPicPr>
        <p:blipFill>
          <a:blip r:embed="rId1"/>
          <a:stretch/>
        </p:blipFill>
        <p:spPr>
          <a:xfrm>
            <a:off x="512640" y="622440"/>
            <a:ext cx="7979040" cy="15667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6" descr="D:\philippe collège\B InSight\activité sismo proposition\20190421_191646.jpg"/>
          <p:cNvPicPr/>
          <p:nvPr/>
        </p:nvPicPr>
        <p:blipFill>
          <a:blip r:embed="rId2"/>
          <a:stretch/>
        </p:blipFill>
        <p:spPr>
          <a:xfrm>
            <a:off x="1785960" y="1857240"/>
            <a:ext cx="51433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4" descr="D:\philippe collège\B InSight\activité sismo proposition\avec bois.JPG"/>
          <p:cNvPicPr/>
          <p:nvPr/>
        </p:nvPicPr>
        <p:blipFill>
          <a:blip r:embed="rId2"/>
          <a:stretch/>
        </p:blipFill>
        <p:spPr>
          <a:xfrm>
            <a:off x="928800" y="3500280"/>
            <a:ext cx="7286400" cy="3214800"/>
          </a:xfrm>
          <a:prstGeom prst="rect">
            <a:avLst/>
          </a:prstGeom>
          <a:ln w="0">
            <a:noFill/>
          </a:ln>
        </p:spPr>
      </p:pic>
      <p:pic>
        <p:nvPicPr>
          <p:cNvPr id="403" name="Image 5" descr="D:\philippe collège\B InSight\activité sismo proposition\20190425_150526.jpg"/>
          <p:cNvPicPr/>
          <p:nvPr/>
        </p:nvPicPr>
        <p:blipFill>
          <a:blip r:embed="rId3"/>
          <a:stretch/>
        </p:blipFill>
        <p:spPr>
          <a:xfrm>
            <a:off x="4643280" y="357120"/>
            <a:ext cx="3500640" cy="28576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e 8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05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06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D:\philippe collège\B InSight\activité sismo proposition\avec caoutchouc.JPG"/>
          <p:cNvPicPr/>
          <p:nvPr/>
        </p:nvPicPr>
        <p:blipFill>
          <a:blip r:embed="rId2"/>
          <a:stretch/>
        </p:blipFill>
        <p:spPr>
          <a:xfrm>
            <a:off x="1071720" y="3214800"/>
            <a:ext cx="7172280" cy="3332160"/>
          </a:xfrm>
          <a:prstGeom prst="rect">
            <a:avLst/>
          </a:prstGeom>
          <a:ln w="0">
            <a:noFill/>
          </a:ln>
        </p:spPr>
      </p:pic>
      <p:pic>
        <p:nvPicPr>
          <p:cNvPr id="409" name="Image 4" descr="D:\philippe collège\B InSight\activité sismo proposition\20190425_150335.jpg"/>
          <p:cNvPicPr/>
          <p:nvPr/>
        </p:nvPicPr>
        <p:blipFill>
          <a:blip r:embed="rId3"/>
          <a:stretch/>
        </p:blipFill>
        <p:spPr>
          <a:xfrm>
            <a:off x="5000760" y="357120"/>
            <a:ext cx="319860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10" name="Groupe 5"/>
          <p:cNvGrpSpPr/>
          <p:nvPr/>
        </p:nvGrpSpPr>
        <p:grpSpPr>
          <a:xfrm>
            <a:off x="571680" y="4071960"/>
            <a:ext cx="642600" cy="1857240"/>
            <a:chOff x="571680" y="4071960"/>
            <a:chExt cx="642600" cy="1857240"/>
          </a:xfrm>
        </p:grpSpPr>
        <p:sp>
          <p:nvSpPr>
            <p:cNvPr id="411" name="Ellipse 6"/>
            <p:cNvSpPr/>
            <p:nvPr/>
          </p:nvSpPr>
          <p:spPr>
            <a:xfrm>
              <a:off x="571680" y="4071960"/>
              <a:ext cx="64260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2" name="Ellipse 7"/>
            <p:cNvSpPr/>
            <p:nvPr/>
          </p:nvSpPr>
          <p:spPr>
            <a:xfrm>
              <a:off x="571680" y="5286240"/>
              <a:ext cx="64260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D:\philippe collège\B InSight\activité sismo proposition\avec ressorts.JPG"/>
          <p:cNvPicPr/>
          <p:nvPr/>
        </p:nvPicPr>
        <p:blipFill>
          <a:blip r:embed="rId2"/>
          <a:stretch/>
        </p:blipFill>
        <p:spPr>
          <a:xfrm>
            <a:off x="857160" y="3429000"/>
            <a:ext cx="735804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Image 4" descr="D:\philippe collège\B InSight\activité sismo proposition\20190425_150434.jpg"/>
          <p:cNvPicPr/>
          <p:nvPr/>
        </p:nvPicPr>
        <p:blipFill>
          <a:blip r:embed="rId3"/>
          <a:stretch/>
        </p:blipFill>
        <p:spPr>
          <a:xfrm>
            <a:off x="4786200" y="285840"/>
            <a:ext cx="33894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e 5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17" name="Ellipse 6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18" name="Ellipse 7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r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D:\philippe collège\B InSight\activité sismo proposition\avec sable.JPG"/>
          <p:cNvPicPr/>
          <p:nvPr/>
        </p:nvPicPr>
        <p:blipFill>
          <a:blip r:embed="rId2"/>
          <a:stretch/>
        </p:blipFill>
        <p:spPr>
          <a:xfrm>
            <a:off x="857160" y="3500280"/>
            <a:ext cx="7429680" cy="306072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e 4"/>
          <p:cNvGrpSpPr/>
          <p:nvPr/>
        </p:nvGrpSpPr>
        <p:grpSpPr>
          <a:xfrm>
            <a:off x="357120" y="4214880"/>
            <a:ext cx="642960" cy="1857240"/>
            <a:chOff x="357120" y="4214880"/>
            <a:chExt cx="642960" cy="1857240"/>
          </a:xfrm>
        </p:grpSpPr>
        <p:sp>
          <p:nvSpPr>
            <p:cNvPr id="422" name="Ellipse 5"/>
            <p:cNvSpPr/>
            <p:nvPr/>
          </p:nvSpPr>
          <p:spPr>
            <a:xfrm>
              <a:off x="357120" y="4214880"/>
              <a:ext cx="642960" cy="642960"/>
            </a:xfrm>
            <a:prstGeom prst="ellipse">
              <a:avLst/>
            </a:prstGeom>
            <a:solidFill>
              <a:srgbClr val="f0a22e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23" name="Ellipse 6"/>
            <p:cNvSpPr/>
            <p:nvPr/>
          </p:nvSpPr>
          <p:spPr>
            <a:xfrm>
              <a:off x="357120" y="5429160"/>
              <a:ext cx="642960" cy="64296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4" name="Image 7" descr="D:\philippe collège\B InSight\activité sismo proposition\20190425_151004.jpg"/>
          <p:cNvPicPr/>
          <p:nvPr/>
        </p:nvPicPr>
        <p:blipFill>
          <a:blip r:embed="rId3"/>
          <a:stretch/>
        </p:blipFill>
        <p:spPr>
          <a:xfrm>
            <a:off x="4786200" y="285840"/>
            <a:ext cx="34848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5T20:42:31Z</dcterms:created>
  <dc:creator>pht</dc:creator>
  <dc:description/>
  <dc:language>en-US</dc:language>
  <cp:lastModifiedBy>pht</cp:lastModifiedBy>
  <dcterms:modified xsi:type="dcterms:W3CDTF">2019-04-25T21:07:46Z</dcterms:modified>
  <cp:revision>7</cp:revision>
  <dc:subject/>
  <dc:title>Quelques réponses en images</dc:title>
</cp:coreProperties>
</file>